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979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693FD6-D6B0-4272-AA37-BD58DCA37C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31DCDE-8E9D-46B3-86F3-97D1AC55C2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B15177-643E-4D65-8910-F35488EF4C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B3B283-E202-4A7F-81C2-37B30DCCD7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2B2D0C-0318-4CAB-A216-AA3FCDD078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FBBB8C-9EC6-4EA9-A5AF-657BB8A53C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0B658D-AA0A-437B-96F5-4CBBF0F889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18D4D6-7B7B-4BE2-9C4C-CEFACD9C0F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45F88F-6BE9-4A31-B436-5DC24F4D9F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79E195-37BB-49DD-8F7E-68404BB843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6D8487-7ABD-4957-85F0-879164598B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F9EAF2-BA10-4FD6-A7C8-A500A97402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DB5A96-EB2A-4763-94EA-17B6FCB4A75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hyperlink" Target="http://www.cms.hhs.gov/AcuteInpatientPPS/FFD/itemdetail.asp?filterType=none&amp;filterByDID=-99&amp;sortByDID=2&amp;sortOrder=ascending&amp;itemID=CMS1201740&amp;intNumPerPage=10" TargetMode="External"/><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hyperlink" Target="http://www.cms.hhs.gov/quarterlyproviderupdates/downloads/cms1533fc.pdf" TargetMode="External"/><Relationship Id="rId2" Type="http://schemas.openxmlformats.org/officeDocument/2006/relationships/hyperlink" Target="http://www.cms.hhs.gov/MLNMattersArticles/downloads/MM5499.pdf" TargetMode="External"/><Relationship Id="rId3" Type="http://schemas.openxmlformats.org/officeDocument/2006/relationships/hyperlink" Target="http://www.cdc.gov/nchs/datawh/ftpserv/ftpicd9/ftpicd9.htm" TargetMode="External"/><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spital-acquired conditions</a:t>
            </a:r>
            <a:endParaRPr b="0" lang="en-US" sz="4400" spc="-1" strike="noStrike">
              <a:solidFill>
                <a:srgbClr val="000000"/>
              </a:solidFill>
              <a:latin typeface="Arial"/>
            </a:endParaRPr>
          </a:p>
        </p:txBody>
      </p:sp>
      <p:sp>
        <p:nvSpPr>
          <p:cNvPr id="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tion 5001(c) of Deficit Reduction Act  (DRA) requires Secretary to select at least two conditions by 10/1/07 that ar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 High cost or high volume or both</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Assigned to a higher paying DRG when present as a secondary diagnosi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 Reasonably preventable through application of evidence based guidelines</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ADBD5399-2EB4-468F-8A9D-80F3C538363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sent on Admission Indicator</a:t>
            </a: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K3 segment reads as follow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POAYNUW1YZ” - Represents claim with 1 principal and 5 secondary diagnoses (6 POA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incipal POA (Y) and 5 secondary POAs are </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POA (N)</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known if POA (U)</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nically undetermined (W)</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empt from reporting (1)</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A (Y)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 indicates the end of the POA data elements</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3D18569E-8C56-47FB-BD6A-D0FAEBF3FFD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8 Hospital-acquired conditions (HACs) for 10/1/08 implementation</a:t>
            </a:r>
            <a:endParaRPr b="0" lang="en-US" sz="40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533520" indent="-53352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rious preventable event – object left in surgery</a:t>
            </a:r>
            <a:endParaRPr b="0" lang="en-US" sz="2800" spc="-1" strike="noStrike">
              <a:solidFill>
                <a:srgbClr val="000000"/>
              </a:solidFill>
              <a:latin typeface="Arial"/>
            </a:endParaRPr>
          </a:p>
          <a:p>
            <a:pPr lvl="1" marL="914400" indent="-4572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998.4 - CC</a:t>
            </a:r>
            <a:endParaRPr b="0" lang="en-US" sz="2400" spc="-1" strike="noStrike">
              <a:solidFill>
                <a:srgbClr val="000000"/>
              </a:solidFill>
              <a:latin typeface="Arial"/>
            </a:endParaRPr>
          </a:p>
          <a:p>
            <a:pPr marL="533520" indent="-53352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rious preventable event - air embolism</a:t>
            </a:r>
            <a:endParaRPr b="0" lang="en-US" sz="2800" spc="-1" strike="noStrike">
              <a:solidFill>
                <a:srgbClr val="000000"/>
              </a:solidFill>
              <a:latin typeface="Arial"/>
            </a:endParaRPr>
          </a:p>
          <a:p>
            <a:pPr lvl="1" marL="914400" indent="-4572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999.1 - MCC</a:t>
            </a:r>
            <a:endParaRPr b="0" lang="en-US" sz="2400" spc="-1" strike="noStrike">
              <a:solidFill>
                <a:srgbClr val="000000"/>
              </a:solidFill>
              <a:latin typeface="Arial"/>
            </a:endParaRPr>
          </a:p>
          <a:p>
            <a:pPr marL="533520" indent="-53352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rious preventable event- blood incompatibility</a:t>
            </a:r>
            <a:endParaRPr b="0" lang="en-US" sz="2800" spc="-1" strike="noStrike">
              <a:solidFill>
                <a:srgbClr val="000000"/>
              </a:solidFill>
              <a:latin typeface="Arial"/>
            </a:endParaRPr>
          </a:p>
          <a:p>
            <a:pPr lvl="1" marL="914400" indent="-4572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999.6 - CC</a:t>
            </a:r>
            <a:endParaRPr b="0" lang="en-US" sz="2400" spc="-1" strike="noStrike">
              <a:solidFill>
                <a:srgbClr val="000000"/>
              </a:solidFill>
              <a:latin typeface="Arial"/>
            </a:endParaRPr>
          </a:p>
          <a:p>
            <a:pPr marL="533520" indent="-53352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theter associated urinary tract infection</a:t>
            </a:r>
            <a:endParaRPr b="0" lang="en-US" sz="2800" spc="-1" strike="noStrike">
              <a:solidFill>
                <a:srgbClr val="000000"/>
              </a:solidFill>
              <a:latin typeface="Arial"/>
            </a:endParaRPr>
          </a:p>
          <a:p>
            <a:pPr lvl="1" marL="914400" indent="-4572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996.64 &amp; 599.0 – CCs</a:t>
            </a:r>
            <a:endParaRPr b="0" lang="en-US" sz="2400" spc="-1" strike="noStrike">
              <a:solidFill>
                <a:srgbClr val="000000"/>
              </a:solidFill>
              <a:latin typeface="Arial"/>
            </a:endParaRPr>
          </a:p>
          <a:p>
            <a:pPr lvl="1" marL="91440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7F3C9E4C-43C8-466F-A182-88FBA085080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8 HACs for 10/1/08 implementation - continued</a:t>
            </a:r>
            <a:endParaRPr b="0" lang="en-US" sz="40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lnSpc>
                <a:spcPct val="90000"/>
              </a:lnSpc>
              <a:spcBef>
                <a:spcPts val="601"/>
              </a:spcBef>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ssure ulcers</a:t>
            </a:r>
            <a:endParaRPr b="0" lang="en-US" sz="2400" spc="-1" strike="noStrike">
              <a:solidFill>
                <a:srgbClr val="000000"/>
              </a:solidFill>
              <a:latin typeface="Arial"/>
            </a:endParaRPr>
          </a:p>
          <a:p>
            <a:pPr lvl="1" marL="990720" indent="-5335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07.00, 707.01, &amp; 707.09 – CCs</a:t>
            </a:r>
            <a:endParaRPr b="0" lang="en-US" sz="2000" spc="-1" strike="noStrike">
              <a:solidFill>
                <a:srgbClr val="000000"/>
              </a:solidFill>
              <a:latin typeface="Arial"/>
            </a:endParaRPr>
          </a:p>
          <a:p>
            <a:pPr lvl="1" marL="990720" indent="-5335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07.02 – 707.07 - MCCs</a:t>
            </a:r>
            <a:endParaRPr b="0" lang="en-US" sz="2000" spc="-1" strike="noStrike">
              <a:solidFill>
                <a:srgbClr val="000000"/>
              </a:solidFill>
              <a:latin typeface="Arial"/>
            </a:endParaRPr>
          </a:p>
          <a:p>
            <a:pPr marL="609480" indent="-609480">
              <a:lnSpc>
                <a:spcPct val="90000"/>
              </a:lnSpc>
              <a:spcBef>
                <a:spcPts val="601"/>
              </a:spcBef>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scular catheter associated infection</a:t>
            </a:r>
            <a:endParaRPr b="0" lang="en-US" sz="2400" spc="-1" strike="noStrike">
              <a:solidFill>
                <a:srgbClr val="000000"/>
              </a:solidFill>
              <a:latin typeface="Arial"/>
            </a:endParaRPr>
          </a:p>
          <a:p>
            <a:pPr lvl="1" marL="990720" indent="-5335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99.31- CC</a:t>
            </a:r>
            <a:endParaRPr b="0" lang="en-US" sz="2000" spc="-1" strike="noStrike">
              <a:solidFill>
                <a:srgbClr val="000000"/>
              </a:solidFill>
              <a:latin typeface="Arial"/>
            </a:endParaRPr>
          </a:p>
          <a:p>
            <a:pPr marL="609480" indent="-609480">
              <a:lnSpc>
                <a:spcPct val="90000"/>
              </a:lnSpc>
              <a:spcBef>
                <a:spcPts val="601"/>
              </a:spcBef>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gical site infection – Mediastinitis after CABG</a:t>
            </a:r>
            <a:endParaRPr b="0" lang="en-US" sz="2400" spc="-1" strike="noStrike">
              <a:solidFill>
                <a:srgbClr val="000000"/>
              </a:solidFill>
              <a:latin typeface="Arial"/>
            </a:endParaRPr>
          </a:p>
          <a:p>
            <a:pPr lvl="1" marL="990720" indent="-5335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19.2 - MCC &amp; 36.10 – 36.19</a:t>
            </a:r>
            <a:endParaRPr b="0" lang="en-US" sz="2000" spc="-1" strike="noStrike">
              <a:solidFill>
                <a:srgbClr val="000000"/>
              </a:solidFill>
              <a:latin typeface="Arial"/>
            </a:endParaRPr>
          </a:p>
          <a:p>
            <a:pPr marL="609480" indent="-609480">
              <a:lnSpc>
                <a:spcPct val="90000"/>
              </a:lnSpc>
              <a:spcBef>
                <a:spcPts val="601"/>
              </a:spcBef>
              <a:buClr>
                <a:srgbClr val="000000"/>
              </a:buClr>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lls – specific trauma codes</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1"/>
              </a:rPr>
              <a:t>http://www.cms.hhs.gov/AcuteInpatientPPS/FFD/itemdetail.asp?filterType=none&amp;filterByDID=-99&amp;sortByDID=2&amp;sortOrder=ascending&amp;itemID=CMS1201740&amp;intNumPerPage=10</a:t>
            </a:r>
            <a:r>
              <a:rPr b="0" lang="en-US" sz="2400" spc="-1" strike="noStrike">
                <a:solidFill>
                  <a:srgbClr val="000000"/>
                </a:solidFill>
                <a:latin typeface="Arial"/>
              </a:rPr>
              <a:t> - MCC &amp; CC</a:t>
            </a:r>
            <a:endParaRPr b="0" lang="en-US" sz="2400" spc="-1" strike="noStrike">
              <a:solidFill>
                <a:srgbClr val="000000"/>
              </a:solidFill>
              <a:latin typeface="Arial"/>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5482CA47-5E4D-444A-A1AC-7F44241AFD9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spital-acquired conditions</a:t>
            </a: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 Additional HAC possibilities for 10/1/08</a:t>
            </a:r>
            <a:endParaRPr b="0" lang="en-US" sz="3200" spc="-1" strike="noStrike">
              <a:solidFill>
                <a:srgbClr val="000000"/>
              </a:solidFill>
              <a:latin typeface="Arial"/>
            </a:endParaRPr>
          </a:p>
          <a:p>
            <a:pPr lvl="2" marL="1371600" indent="-457200">
              <a:lnSpc>
                <a:spcPct val="9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ntilator associated pneumonia – working to create new code</a:t>
            </a:r>
            <a:endParaRPr b="0" lang="en-US" sz="2400" spc="-1" strike="noStrike">
              <a:solidFill>
                <a:srgbClr val="000000"/>
              </a:solidFill>
              <a:latin typeface="Arial"/>
            </a:endParaRPr>
          </a:p>
          <a:p>
            <a:pPr lvl="2" marL="1371600" indent="-457200">
              <a:lnSpc>
                <a:spcPct val="9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phylococcus aureus septicemia – need to clarify instances when preventable</a:t>
            </a:r>
            <a:endParaRPr b="0" lang="en-US" sz="2400" spc="-1" strike="noStrike">
              <a:solidFill>
                <a:srgbClr val="000000"/>
              </a:solidFill>
              <a:latin typeface="Arial"/>
            </a:endParaRPr>
          </a:p>
          <a:p>
            <a:pPr lvl="3" marL="1752480" indent="-3808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38.11 + 995.91, 998.59, 999.3 - MCCs</a:t>
            </a:r>
            <a:endParaRPr b="0" lang="en-US" sz="2000" spc="-1" strike="noStrike">
              <a:solidFill>
                <a:srgbClr val="000000"/>
              </a:solidFill>
              <a:latin typeface="Arial"/>
            </a:endParaRPr>
          </a:p>
          <a:p>
            <a:pPr lvl="2" marL="1371600" indent="-457200">
              <a:lnSpc>
                <a:spcPct val="9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ep vein thrombosis (DVT) and pulmonary embolism (PE) – need to identify instances when preventable, such as after certain elective surgeries</a:t>
            </a:r>
            <a:endParaRPr b="0" lang="en-US" sz="2400" spc="-1" strike="noStrike">
              <a:solidFill>
                <a:srgbClr val="000000"/>
              </a:solidFill>
              <a:latin typeface="Arial"/>
            </a:endParaRPr>
          </a:p>
          <a:p>
            <a:pPr lvl="3" marL="1752480" indent="-3808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VT: 453.40 – 453.42 – CC</a:t>
            </a:r>
            <a:endParaRPr b="0" lang="en-US" sz="2000" spc="-1" strike="noStrike">
              <a:solidFill>
                <a:srgbClr val="000000"/>
              </a:solidFill>
              <a:latin typeface="Arial"/>
            </a:endParaRPr>
          </a:p>
          <a:p>
            <a:pPr lvl="3" marL="1752480" indent="-3808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 415.10 &amp; 415.19 - MCC</a:t>
            </a:r>
            <a:endParaRPr b="0" lang="en-US" sz="2000" spc="-1" strike="noStrike">
              <a:solidFill>
                <a:srgbClr val="000000"/>
              </a:solidFill>
              <a:latin typeface="Arial"/>
            </a:endParaRPr>
          </a:p>
          <a:p>
            <a:pPr lvl="2" marL="137160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041BFDCE-827E-420A-A275-51C79ACF7E8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spital-acquired conditions</a:t>
            </a: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licited input from the industry on better defining these condition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so solicited additional areas for selectio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inue to examine other areas </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tridium Difficile-Associated Disease (CDAD) 008.45 – CC.  Lack of prevention guidelin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thicillin-Resistant Staphyloccocus Aureus (MRSA)</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09.0 – not a CC</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ll discuss further in the IPPS proposed rule for FY 2009</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C2B34F7E-EFBD-45BE-8C82-F48109532F3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dditional information</a:t>
            </a: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PPS final rule - </a:t>
            </a:r>
            <a:r>
              <a:rPr b="0" lang="en-US" sz="2800" spc="-1" strike="noStrike" u="sng">
                <a:solidFill>
                  <a:srgbClr val="009999"/>
                </a:solidFill>
                <a:uFillTx/>
                <a:latin typeface="Arial"/>
                <a:hlinkClick r:id="rId1"/>
              </a:rPr>
              <a:t>http://www.cms.hhs.gov/quarterlyproviderupdates/downloads/cms1533fc.pdf</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pital acquired conditions – page 47200</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LN Matters – POA information</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2"/>
              </a:rPr>
              <a:t>http://www.cms.hhs.gov/MLNMattersArticles/downloads/MM5499.pdf</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A guidelines- ICD-9CM Official Guidelines, p. 92</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3"/>
              </a:rPr>
              <a:t>http://www.cdc.gov/nchs/datawh/ftpserv/ftpicd9/ftpicd9.htm</a:t>
            </a:r>
            <a:r>
              <a:rPr b="0" lang="en-US" sz="2800" spc="-1" strike="noStrike" u="sng">
                <a:solidFill>
                  <a:srgbClr val="000000"/>
                </a:solidFill>
                <a:uFillTx/>
                <a:latin typeface="Arial"/>
              </a:rPr>
              <a:t> </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01E634E4-89DE-42B2-8CD4-3DDAEAB766EF}" type="slidenum">
              <a:t>15</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spital-acquired conditions</a:t>
            </a:r>
            <a:endParaRPr b="0" lang="en-US" sz="44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ginning 10/1/08, the conditions will not be assigned to higher paying DRG unless present on admission (POA)</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hospital-acquired condition is only MCC/CC then HAC will not lead to assignment to MCC/CC severity level</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other secondary conditions reported which are MCC/CCs, then case would be assigned to higher severity level</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discharges on or after 10/1/07 -hospitals begin submitting POA information on secondary diagnose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ludes CAH, psych and rehab hospital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lies only to acute IPPS hospital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7B8E1860-FF0D-442C-BCFA-B25746930DF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sent on Admission Indicator</a:t>
            </a: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 5499, dated May 11, 2007 gives requirement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gin reporting POA for discharges on or after 10/1/07.  No penalty at first.</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charges on or after 1/1/08 claims will be processed without POA; however, will get remark code in remittance advice noting omission of POA</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charges on or after 4/1/08 – claim returned if POA info is missing</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F31162D7-1711-4315-B810-8A5363FC4FF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sent on Admission Indicator</a:t>
            </a: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 5499, dated May 11, 2007 gives requirement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rect data entry (DDE) screens cannot be updated to include this information until January 1, 2008</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fore hospitals submitting claims via DDE will begin submitting POA indicators on 1/1/08</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600906DF-5A92-41D5-A07E-02D8E236DA1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sent on Admission Indicator</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aims submitted electronically via 837, 4010A1 format shall use </a:t>
            </a:r>
            <a:r>
              <a:rPr b="1" lang="en-US" sz="3200" spc="-1" strike="noStrike">
                <a:solidFill>
                  <a:srgbClr val="000000"/>
                </a:solidFill>
                <a:latin typeface="Arial"/>
              </a:rPr>
              <a:t>segment K3 in the 2300 loop, data element K301</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element shall contain letters “POA”, followed by a single POA indicator for every diagnosis on the clai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A indicator for principal diagnosis should be first indicator after “POA”</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AD8AC5F4-4AE2-4107-A647-C1D57922050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sent on Admission Indicator</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ary diagnoses will follow, if applicabl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last POA indicator for principal and, if applicable, other diagnoses shall be followed by the letter “Z” to indicate the end of POA indicators for principal and, if applicable, other diagnoses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7118B1FC-4333-44DC-A511-AA348AA776C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sent on Admission Indicator</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OA indicators should be reported in the same sequence as are the principal and secondary diagnos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A indicators should be included for all diagnoses reported on the claim, even though CMS currently only processes the first 9 diagnoses</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EE555B59-51E9-452B-B1D1-D4065936B4E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esent on Admission Indicator</a:t>
            </a:r>
            <a:br>
              <a:rPr sz="4000"/>
            </a:br>
            <a:r>
              <a:rPr b="0" lang="en-US" sz="4000" spc="-1" strike="noStrike">
                <a:solidFill>
                  <a:srgbClr val="000000"/>
                </a:solidFill>
                <a:latin typeface="Arial"/>
              </a:rPr>
              <a:t>Paper Claims</a:t>
            </a:r>
            <a:endParaRPr b="0" lang="en-US" sz="40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ffective 10/1/07 hospitals reporting on UB-04 paper claims will also report POA indicato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OA is placed in the eighth digit of FL 67, Principal diagnosis and the eighth digit of each Secondary diagnosis in fields FL 67 A-Q</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FCE5D925-7AA5-4FE9-8C41-1427AFCB6AD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sent on Admission Indicator</a:t>
            </a: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 - Yes (present at the time of inpatient admiss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 – No (not present at the time of inpatient admiss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 - Unknown (documentation is insufficient to determine if condition is present at time of inpatient admiss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 – Clinically undetermined (provider is unable to clinically determine whether condition was present at time of inpatient admission or no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   Unreported/Not used – Exempt from POA reporting (This code is the equivalent of a blank on the UB-04, but blanks are not desirable when submitting data via the 4010A1. </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55970974-5248-451D-B074-B9F2D1776F3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09T18:55:57Z</dcterms:created>
  <dc:creator>Pat Brooks</dc:creator>
  <dc:description/>
  <dc:language>en-US</dc:language>
  <cp:lastModifiedBy>MadyHue</cp:lastModifiedBy>
  <dcterms:modified xsi:type="dcterms:W3CDTF">2007-09-26T20:29:50Z</dcterms:modified>
  <cp:revision>28</cp:revision>
  <dc:subject/>
  <dc:title>MS-DRGs and other IPPS Issu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866472950</vt:r8>
  </property>
  <property fmtid="{D5CDD505-2E9C-101B-9397-08002B2CF9AE}" pid="3" name="_AuthorEmail">
    <vt:lpwstr>Marilu.Hue@cms.hhs.gov</vt:lpwstr>
  </property>
  <property fmtid="{D5CDD505-2E9C-101B-9397-08002B2CF9AE}" pid="4" name="_AuthorEmailDisplayName">
    <vt:lpwstr>Hue, Marilu (CMS/CMM)</vt:lpwstr>
  </property>
  <property fmtid="{D5CDD505-2E9C-101B-9397-08002B2CF9AE}" pid="5" name="_EmailSubject">
    <vt:lpwstr/>
  </property>
  <property fmtid="{D5CDD505-2E9C-101B-9397-08002B2CF9AE}" pid="6" name="_NewReviewCycle">
    <vt:lpwstr/>
  </property>
</Properties>
</file>